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F9BF-3674-4935-8CB8-B466A9E6C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875C-EB96-41AE-B293-240E4575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ECAE-6F64-47C3-8A3A-CB15DE63D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78F9-8DB2-4092-BC8A-61C3E7D10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6084-D5AA-40A7-B92B-B03550E3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5325-DA8B-4668-8938-81363AAE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D45E-4EE2-4E55-A898-ED57EABE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50D0-E9DF-4D9E-85BC-B19BF643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AB2D-D61F-4CC4-8D86-40DA4A2C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4600-C5A9-4D77-9A7F-BBED35BD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10EA-5E93-4745-A1CB-C35F769F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1EA8-BBB3-4D75-9664-A0DCE1EE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33E9-4C27-4868-A9AC-781AFFAD68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tn=baiduimage&amp;ps=1&amp;ct=201326592&amp;lm=-1&amp;cl=2&amp;nc=1&amp;ie=utf-8&amp;word=&#23425;&#27874;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014 浙江万里学院校标空心"/>
          <p:cNvPicPr/>
          <p:nvPr/>
        </p:nvPicPr>
        <p:blipFill>
          <a:blip r:embed="rId1"/>
          <a:stretch/>
        </p:blipFill>
        <p:spPr>
          <a:xfrm>
            <a:off x="6516720" y="117360"/>
            <a:ext cx="2477880" cy="501840"/>
          </a:xfrm>
          <a:prstGeom prst="rect">
            <a:avLst/>
          </a:prstGeom>
          <a:ln w="0">
            <a:noFill/>
          </a:ln>
        </p:spPr>
      </p:pic>
      <p:sp>
        <p:nvSpPr>
          <p:cNvPr id="42" name="矩形 5"/>
          <p:cNvSpPr/>
          <p:nvPr/>
        </p:nvSpPr>
        <p:spPr>
          <a:xfrm>
            <a:off x="3240" y="1844640"/>
            <a:ext cx="9144000" cy="5018040"/>
          </a:xfrm>
          <a:prstGeom prst="rect">
            <a:avLst/>
          </a:prstGeom>
          <a:solidFill>
            <a:srgbClr val="008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" y="1432080"/>
            <a:ext cx="334476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、统一高考的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0" y="0"/>
            <a:ext cx="464328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招生考试改革对我院发展的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ttangolo 5"/>
          <p:cNvSpPr/>
          <p:nvPr/>
        </p:nvSpPr>
        <p:spPr>
          <a:xfrm>
            <a:off x="395280" y="2133720"/>
            <a:ext cx="8424720" cy="4390920"/>
          </a:xfrm>
          <a:prstGeom prst="roundRect">
            <a:avLst>
              <a:gd name="adj" fmla="val 28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分批次，让高校生源的竞争回归到品牌的竞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分文理，让学生的知识结构更加多元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志愿到专业，将高校的发展推出学校发展的核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240" y="1432080"/>
            <a:ext cx="334476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、统一高考的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0" y="0"/>
            <a:ext cx="464328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招生考试改革对我院发展的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ttangolo 5"/>
          <p:cNvSpPr/>
          <p:nvPr/>
        </p:nvSpPr>
        <p:spPr>
          <a:xfrm>
            <a:off x="324000" y="2133720"/>
            <a:ext cx="8599320" cy="4390920"/>
          </a:xfrm>
          <a:prstGeom prst="roundRect">
            <a:avLst>
              <a:gd name="adj" fmla="val 28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宁波地处长三角南翼，为副省级市、计划单列市、浙江省地级市，荣获国家历史文化名城、中国大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进一步对外开放的沿海城市之一、中国综合改革试点城市、全国首批国家创新型试点城市、全国文明城市三连冠、中国最具幸福感城市金奖、中国（大陆）国际形象最佳城市、中国优秀旅游城市、国家环保模范城市、国家园林城市、国家卫生城市、全国质量强市示范城市、中国品牌之都、中国十大最佳会展城市、中国大陆十大最佳商业城市、公众首选宜居城市、综合竞争力全国十强城市等荣誉称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宁波形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240" y="1432080"/>
            <a:ext cx="334476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宁波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0" y="0"/>
            <a:ext cx="464328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5"/>
          <p:cNvSpPr/>
          <p:nvPr/>
        </p:nvSpPr>
        <p:spPr>
          <a:xfrm>
            <a:off x="3240" y="1844640"/>
            <a:ext cx="9144000" cy="5018040"/>
          </a:xfrm>
          <a:prstGeom prst="rect">
            <a:avLst/>
          </a:prstGeom>
          <a:solidFill>
            <a:srgbClr val="008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014 浙江万里学院校标空心"/>
          <p:cNvPicPr/>
          <p:nvPr/>
        </p:nvPicPr>
        <p:blipFill>
          <a:blip r:embed="rId1"/>
          <a:stretch/>
        </p:blipFill>
        <p:spPr>
          <a:xfrm>
            <a:off x="6516720" y="117360"/>
            <a:ext cx="2477880" cy="501840"/>
          </a:xfrm>
          <a:prstGeom prst="rect">
            <a:avLst/>
          </a:prstGeom>
          <a:ln w="0">
            <a:noFill/>
          </a:ln>
        </p:spPr>
      </p:pic>
      <p:sp>
        <p:nvSpPr>
          <p:cNvPr id="53" name="Rettangolo 5"/>
          <p:cNvSpPr/>
          <p:nvPr/>
        </p:nvSpPr>
        <p:spPr>
          <a:xfrm>
            <a:off x="395280" y="2133720"/>
            <a:ext cx="8424720" cy="4390920"/>
          </a:xfrm>
          <a:prstGeom prst="roundRect">
            <a:avLst>
              <a:gd name="adj" fmla="val 28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轻文化，重技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3240" y="1432080"/>
            <a:ext cx="334476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二、单独考试的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0" y="0"/>
            <a:ext cx="464328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招生考试改革对我院发展的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240" y="1432080"/>
            <a:ext cx="334476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二、单独考试的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0" y="0"/>
            <a:ext cx="464328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招生考试改革对我院发展的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ttangolo 5"/>
          <p:cNvSpPr/>
          <p:nvPr/>
        </p:nvSpPr>
        <p:spPr>
          <a:xfrm>
            <a:off x="189000" y="2133720"/>
            <a:ext cx="8775720" cy="4103640"/>
          </a:xfrm>
          <a:prstGeom prst="roundRect">
            <a:avLst>
              <a:gd name="adj" fmla="val 28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学校周边环境可概括为三区三广三馆三本三院两园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三区，指鄞州行政中心区、宁波南高教园区、宁波南部商务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三广，指三大广场，即万达广场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广场、环球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三馆，指宁波博物馆、高教园区图书馆、鄞州区体育馆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三本，指浙江万里学院、宁波诺丁汉大学、浙大宁波理工学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三院，指浙江医药高等专科学院、宁波城市职业技术学院、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波卫生职业技术学院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两园，指鄞州区中心公园、高教园区公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总之，校园周边即便于购物，利于休闲，更利于静心求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3240" y="1432080"/>
            <a:ext cx="334476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周边环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0" y="0"/>
            <a:ext cx="464328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014 浙江万里学院校标空心"/>
          <p:cNvPicPr/>
          <p:nvPr/>
        </p:nvPicPr>
        <p:blipFill>
          <a:blip r:embed="rId1"/>
          <a:stretch/>
        </p:blipFill>
        <p:spPr>
          <a:xfrm>
            <a:off x="6516720" y="117360"/>
            <a:ext cx="2477880" cy="501840"/>
          </a:xfrm>
          <a:prstGeom prst="rect">
            <a:avLst/>
          </a:prstGeom>
          <a:ln w="0">
            <a:noFill/>
          </a:ln>
        </p:spPr>
      </p:pic>
      <p:sp>
        <p:nvSpPr>
          <p:cNvPr id="62" name="矩形 5"/>
          <p:cNvSpPr/>
          <p:nvPr/>
        </p:nvSpPr>
        <p:spPr>
          <a:xfrm>
            <a:off x="0" y="1838160"/>
            <a:ext cx="9144000" cy="5019840"/>
          </a:xfrm>
          <a:prstGeom prst="rect">
            <a:avLst/>
          </a:prstGeom>
          <a:solidFill>
            <a:srgbClr val="008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ttangolo 5"/>
          <p:cNvSpPr/>
          <p:nvPr/>
        </p:nvSpPr>
        <p:spPr>
          <a:xfrm>
            <a:off x="395280" y="2133720"/>
            <a:ext cx="8424720" cy="4390920"/>
          </a:xfrm>
          <a:prstGeom prst="roundRect">
            <a:avLst>
              <a:gd name="adj" fmla="val 28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轻分数，重素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240" y="1432080"/>
            <a:ext cx="334476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二、三位一体的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0" y="0"/>
            <a:ext cx="464328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招生考试改革对我院发展的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3240" y="1432080"/>
            <a:ext cx="334476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二、三位一体的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0" y="0"/>
            <a:ext cx="464328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招生考试改革对我院发展的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ttangolo 5"/>
          <p:cNvSpPr/>
          <p:nvPr/>
        </p:nvSpPr>
        <p:spPr>
          <a:xfrm>
            <a:off x="395280" y="2133720"/>
            <a:ext cx="8424720" cy="4390920"/>
          </a:xfrm>
          <a:prstGeom prst="roundRect">
            <a:avLst>
              <a:gd name="adj" fmla="val 28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校 园 面 积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1427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设备总资产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1.6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亿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图 书 资 料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120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万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建 筑 面 积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65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万平方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3240" y="1432080"/>
            <a:ext cx="334476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二、三位一体的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0" y="0"/>
            <a:ext cx="464328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3240" y="1432080"/>
            <a:ext cx="334476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二、三位一体的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0" y="0"/>
            <a:ext cx="464328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240" y="1432080"/>
            <a:ext cx="334476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校园环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0" y="0"/>
            <a:ext cx="4643280" cy="460440"/>
          </a:xfrm>
          <a:prstGeom prst="rect">
            <a:avLst/>
          </a:prstGeom>
          <a:solidFill>
            <a:srgbClr val="68c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4" descr="万里学院1"/>
          <p:cNvPicPr/>
          <p:nvPr/>
        </p:nvPicPr>
        <p:blipFill>
          <a:blip r:embed="rId2"/>
          <a:stretch/>
        </p:blipFill>
        <p:spPr>
          <a:xfrm>
            <a:off x="900000" y="341280"/>
            <a:ext cx="8572680" cy="5362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5" descr="图片"/>
          <p:cNvPicPr/>
          <p:nvPr/>
        </p:nvPicPr>
        <p:blipFill>
          <a:blip r:embed="rId3"/>
          <a:stretch/>
        </p:blipFill>
        <p:spPr>
          <a:xfrm>
            <a:off x="3240" y="2459160"/>
            <a:ext cx="8856720" cy="3030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6" descr="b27"/>
          <p:cNvPicPr/>
          <p:nvPr/>
        </p:nvPicPr>
        <p:blipFill>
          <a:blip r:embed="rId4"/>
          <a:stretch/>
        </p:blipFill>
        <p:spPr>
          <a:xfrm>
            <a:off x="1187280" y="1185840"/>
            <a:ext cx="6985080" cy="4629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7" descr="_DSC3166"/>
          <p:cNvPicPr/>
          <p:nvPr/>
        </p:nvPicPr>
        <p:blipFill>
          <a:blip r:embed="rId5"/>
          <a:stretch/>
        </p:blipFill>
        <p:spPr>
          <a:xfrm>
            <a:off x="2916360" y="-458640"/>
            <a:ext cx="4697280" cy="7072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8" descr="b13"/>
          <p:cNvPicPr/>
          <p:nvPr/>
        </p:nvPicPr>
        <p:blipFill>
          <a:blip r:embed="rId6"/>
          <a:stretch/>
        </p:blipFill>
        <p:spPr>
          <a:xfrm>
            <a:off x="-608040" y="117360"/>
            <a:ext cx="10080720" cy="6710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9" descr="20141030002521906"/>
          <p:cNvPicPr/>
          <p:nvPr/>
        </p:nvPicPr>
        <p:blipFill>
          <a:blip r:embed="rId7"/>
          <a:stretch/>
        </p:blipFill>
        <p:spPr>
          <a:xfrm>
            <a:off x="900000" y="341280"/>
            <a:ext cx="8244000" cy="6183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0" descr="_DSC3164"/>
          <p:cNvPicPr/>
          <p:nvPr/>
        </p:nvPicPr>
        <p:blipFill>
          <a:blip r:embed="rId8"/>
          <a:stretch/>
        </p:blipFill>
        <p:spPr>
          <a:xfrm>
            <a:off x="1754280" y="1120680"/>
            <a:ext cx="7065720" cy="4694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1" descr="校园夜景"/>
          <p:cNvPicPr/>
          <p:nvPr/>
        </p:nvPicPr>
        <p:blipFill>
          <a:blip r:embed="rId9"/>
          <a:stretch/>
        </p:blipFill>
        <p:spPr>
          <a:xfrm>
            <a:off x="2411280" y="1838160"/>
            <a:ext cx="5359680" cy="3651480"/>
          </a:xfrm>
          <a:prstGeom prst="rect">
            <a:avLst/>
          </a:prstGeom>
          <a:ln w="0">
            <a:noFill/>
          </a:ln>
        </p:spPr>
      </p:pic>
      <p:pic>
        <p:nvPicPr>
          <p:cNvPr id="83" name="图片 23" descr="IMG_0794.JPG"/>
          <p:cNvPicPr/>
          <p:nvPr/>
        </p:nvPicPr>
        <p:blipFill>
          <a:blip r:embed="rId10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图片 24" descr="IMG_0798.JPG"/>
          <p:cNvPicPr/>
          <p:nvPr/>
        </p:nvPicPr>
        <p:blipFill>
          <a:blip r:embed="rId1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26" descr="图片1.jpg"/>
          <p:cNvPicPr/>
          <p:nvPr/>
        </p:nvPicPr>
        <p:blipFill>
          <a:blip r:embed="rId12"/>
          <a:stretch/>
        </p:blipFill>
        <p:spPr>
          <a:xfrm>
            <a:off x="2262240" y="1984320"/>
            <a:ext cx="4619520" cy="2889360"/>
          </a:xfrm>
          <a:prstGeom prst="rect">
            <a:avLst/>
          </a:prstGeom>
          <a:ln w="0">
            <a:noFill/>
          </a:ln>
        </p:spPr>
      </p:pic>
      <p:pic>
        <p:nvPicPr>
          <p:cNvPr id="86" name="图片 27" descr="17985998_100405690000_2.jpg"/>
          <p:cNvPicPr/>
          <p:nvPr/>
        </p:nvPicPr>
        <p:blipFill>
          <a:blip r:embed="rId13"/>
          <a:stretch/>
        </p:blipFill>
        <p:spPr>
          <a:xfrm>
            <a:off x="0" y="388800"/>
            <a:ext cx="9144000" cy="6080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04:13:37Z</dcterms:created>
  <dc:creator>yellownancy</dc:creator>
  <dc:description/>
  <dc:language>en-US</dc:language>
  <cp:lastModifiedBy>dbh</cp:lastModifiedBy>
  <dcterms:modified xsi:type="dcterms:W3CDTF">2016-01-08T00:47:19Z</dcterms:modified>
  <cp:revision>5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