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1EC-9367-449C-AD0A-DE2E230E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A25-0646-4D1E-94E2-4C25FDE7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3B6-3CDA-48EC-B4E4-06496111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470-B784-415B-9913-53F1268B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937-74C4-455A-B131-87BE34E2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28E-DBAB-4BBA-BCD0-11E3F992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553-6D9D-404C-B84C-9DD052FB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AAF-BB93-4A10-B9B2-23C30955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1F3-C900-41D9-8358-CEDE5301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E03-6C0C-406B-A8AC-4775B54B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702-9453-46F0-A51F-9CC03235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412-680E-4803-89D4-34CA27E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A7D0-D393-40E9-BBAD-780284ACB8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3240" y="3718080"/>
            <a:ext cx="9144000" cy="3143160"/>
          </a:xfrm>
          <a:prstGeom prst="rect">
            <a:avLst/>
          </a:prstGeom>
          <a:solidFill>
            <a:srgbClr val="0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55640" y="1557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谢老师的培养，感恩母校的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917000" y="23702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2060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826920" y="4869000"/>
            <a:ext cx="784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学校招生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48" name="矩形 5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>
            <a:hlinkClick r:id="rId2" action="ppaction://hlinksldjump"/>
          </p:cNvPr>
          <p:cNvSpPr/>
          <p:nvPr/>
        </p:nvSpPr>
        <p:spPr>
          <a:xfrm>
            <a:off x="0" y="414972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们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57336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们的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301140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们的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24861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Impact"/>
              </a:rPr>
              <a:t>我们的历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59280" y="1268280"/>
            <a:ext cx="280800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47242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三位一体政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0" y="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历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55640" y="64990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9"/>
          <p:cNvGrpSpPr/>
          <p:nvPr/>
        </p:nvGrpSpPr>
        <p:grpSpPr>
          <a:xfrm>
            <a:off x="1015920" y="1125360"/>
            <a:ext cx="2468520" cy="4970880"/>
            <a:chOff x="1015920" y="1125360"/>
            <a:chExt cx="2468520" cy="4970880"/>
          </a:xfrm>
        </p:grpSpPr>
        <p:sp>
          <p:nvSpPr>
            <p:cNvPr id="59" name="Rectangle 20"/>
            <p:cNvSpPr/>
            <p:nvPr/>
          </p:nvSpPr>
          <p:spPr>
            <a:xfrm>
              <a:off x="1224360" y="5163840"/>
              <a:ext cx="1614600" cy="398880"/>
            </a:xfrm>
            <a:prstGeom prst="rect">
              <a:avLst/>
            </a:prstGeom>
            <a:gradFill rotWithShape="0">
              <a:gsLst>
                <a:gs pos="0">
                  <a:srgbClr val="ffc521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浙 江 万 里 学 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1"/>
            <p:cNvSpPr/>
            <p:nvPr/>
          </p:nvSpPr>
          <p:spPr>
            <a:xfrm>
              <a:off x="1893600" y="4333680"/>
              <a:ext cx="304920" cy="770040"/>
            </a:xfrm>
            <a:prstGeom prst="downArrow">
              <a:avLst>
                <a:gd name="adj1" fmla="val 50000"/>
                <a:gd name="adj2" fmla="val 63135"/>
              </a:avLst>
            </a:prstGeom>
            <a:solidFill>
              <a:srgbClr val="ffcc66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>
              <a:off x="1611000" y="5697360"/>
              <a:ext cx="165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1999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创新办学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>
              <a:off x="1176840" y="1125360"/>
              <a:ext cx="1770120" cy="398880"/>
            </a:xfrm>
            <a:prstGeom prst="rect">
              <a:avLst/>
            </a:prstGeom>
            <a:gradFill rotWithShape="0">
              <a:gsLst>
                <a:gs pos="0">
                  <a:srgbClr val="ffc521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浙江省立宁波农业学校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>
              <a:off x="2439000" y="2970000"/>
              <a:ext cx="90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代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5"/>
            <p:cNvSpPr/>
            <p:nvPr/>
          </p:nvSpPr>
          <p:spPr>
            <a:xfrm>
              <a:off x="1893600" y="3057480"/>
              <a:ext cx="304920" cy="750600"/>
            </a:xfrm>
            <a:prstGeom prst="downArrow">
              <a:avLst>
                <a:gd name="adj1" fmla="val 50000"/>
                <a:gd name="adj2" fmla="val 61541"/>
              </a:avLst>
            </a:prstGeom>
            <a:solidFill>
              <a:srgbClr val="ffcc66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2439720" y="4341600"/>
              <a:ext cx="10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198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1191240" y="2496960"/>
              <a:ext cx="1770120" cy="398880"/>
            </a:xfrm>
            <a:prstGeom prst="rect">
              <a:avLst/>
            </a:prstGeom>
            <a:gradFill rotWithShape="0">
              <a:gsLst>
                <a:gs pos="0">
                  <a:srgbClr val="ffc521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浙江农业大学宁波分校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>
              <a:off x="1015920" y="3884400"/>
              <a:ext cx="2009520" cy="398880"/>
            </a:xfrm>
            <a:prstGeom prst="rect">
              <a:avLst/>
            </a:prstGeom>
            <a:gradFill rotWithShape="0">
              <a:gsLst>
                <a:gs pos="0">
                  <a:srgbClr val="ffc521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浙江农村技术师范专科学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9"/>
            <p:cNvSpPr/>
            <p:nvPr/>
          </p:nvSpPr>
          <p:spPr>
            <a:xfrm>
              <a:off x="1893600" y="1598400"/>
              <a:ext cx="304920" cy="838080"/>
            </a:xfrm>
            <a:prstGeom prst="downArrow">
              <a:avLst>
                <a:gd name="adj1" fmla="val 50000"/>
                <a:gd name="adj2" fmla="val 68713"/>
              </a:avLst>
            </a:prstGeom>
            <a:solidFill>
              <a:srgbClr val="ffcc66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>
              <a:off x="2363400" y="1598400"/>
              <a:ext cx="10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195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31" descr="nx"/>
          <p:cNvPicPr/>
          <p:nvPr/>
        </p:nvPicPr>
        <p:blipFill>
          <a:blip r:embed="rId2"/>
          <a:srcRect l="2477" t="0" r="828" b="22937"/>
          <a:stretch/>
        </p:blipFill>
        <p:spPr>
          <a:xfrm>
            <a:off x="4165560" y="1028880"/>
            <a:ext cx="449568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xj"/>
          <p:cNvPicPr/>
          <p:nvPr/>
        </p:nvPicPr>
        <p:blipFill>
          <a:blip r:embed="rId3"/>
          <a:srcRect l="1050" t="22464" r="5302" b="47278"/>
          <a:stretch/>
        </p:blipFill>
        <p:spPr>
          <a:xfrm>
            <a:off x="4165560" y="2933640"/>
            <a:ext cx="4495680" cy="161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校门"/>
          <p:cNvPicPr/>
          <p:nvPr/>
        </p:nvPicPr>
        <p:blipFill>
          <a:blip r:embed="rId4"/>
          <a:stretch/>
        </p:blipFill>
        <p:spPr>
          <a:xfrm>
            <a:off x="4165560" y="4738680"/>
            <a:ext cx="4495680" cy="1569960"/>
          </a:xfrm>
          <a:prstGeom prst="rect">
            <a:avLst/>
          </a:prstGeom>
          <a:ln w="0">
            <a:noFill/>
          </a:ln>
        </p:spPr>
      </p:pic>
      <p:sp>
        <p:nvSpPr>
          <p:cNvPr id="73" name="Rettangolo 5"/>
          <p:cNvSpPr/>
          <p:nvPr/>
        </p:nvSpPr>
        <p:spPr>
          <a:xfrm>
            <a:off x="3646440" y="2857680"/>
            <a:ext cx="3692520" cy="13446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浙江省现任省长李强是这一时期的杰出学子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75" name="Rettangolo 5"/>
          <p:cNvSpPr/>
          <p:nvPr/>
        </p:nvSpPr>
        <p:spPr>
          <a:xfrm>
            <a:off x="0" y="836640"/>
            <a:ext cx="9107640" cy="108252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    2000    2002    2003    2005   2007   2011   2012   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0" y="0"/>
            <a:ext cx="32385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革试点方案主要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0"/>
            <a:ext cx="356400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历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tangolo 5"/>
          <p:cNvSpPr/>
          <p:nvPr/>
        </p:nvSpPr>
        <p:spPr>
          <a:xfrm>
            <a:off x="250920" y="2887560"/>
            <a:ext cx="576000" cy="2341800"/>
          </a:xfrm>
          <a:custGeom>
            <a:avLst/>
            <a:gdLst>
              <a:gd name="textAreaLeft" fmla="*/ 4680 w 576000"/>
              <a:gd name="textAreaRight" fmla="*/ 571320 w 57600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76">
                <a:moveTo>
                  <a:pt x="609" y="0"/>
                </a:moveTo>
                <a:arcTo wR="609" hR="609" stAng="16200000" swAng="-5400000"/>
                <a:lnTo>
                  <a:pt x="0" y="87167"/>
                </a:lnTo>
                <a:arcTo wR="609" hR="609" stAng="10800000" swAng="-5400000"/>
                <a:lnTo>
                  <a:pt x="20991" y="87776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新办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tangolo 5"/>
          <p:cNvSpPr/>
          <p:nvPr/>
        </p:nvSpPr>
        <p:spPr>
          <a:xfrm>
            <a:off x="1258920" y="2887560"/>
            <a:ext cx="576360" cy="234180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21">
                <a:moveTo>
                  <a:pt x="609" y="0"/>
                </a:moveTo>
                <a:arcTo wR="609" hR="609" stAng="16200000" swAng="-5400000"/>
                <a:lnTo>
                  <a:pt x="0" y="87112"/>
                </a:lnTo>
                <a:arcTo wR="609" hR="609" stAng="10800000" swAng="-5400000"/>
                <a:lnTo>
                  <a:pt x="20991" y="87721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恢复本科招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tangolo 5"/>
          <p:cNvSpPr/>
          <p:nvPr/>
        </p:nvSpPr>
        <p:spPr>
          <a:xfrm>
            <a:off x="234000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式升格为本科院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ttangolo 5"/>
          <p:cNvSpPr/>
          <p:nvPr/>
        </p:nvSpPr>
        <p:spPr>
          <a:xfrm>
            <a:off x="327492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办宁波诺丁汉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5"/>
          <p:cNvSpPr/>
          <p:nvPr/>
        </p:nvSpPr>
        <p:spPr>
          <a:xfrm>
            <a:off x="5292720" y="2781360"/>
            <a:ext cx="934920" cy="2341440"/>
          </a:xfrm>
          <a:custGeom>
            <a:avLst/>
            <a:gdLst>
              <a:gd name="textAreaLeft" fmla="*/ 7560 w 934920"/>
              <a:gd name="textAreaRight" fmla="*/ 927360 w 934920"/>
              <a:gd name="textAreaTop" fmla="*/ 7560 h 2341440"/>
              <a:gd name="textAreaBottom" fmla="*/ 2333880 h 2341440"/>
            </a:gdLst>
            <a:ahLst/>
            <a:rect l="textAreaLeft" t="textAreaTop" r="textAreaRight" b="textAreaBottom"/>
            <a:pathLst>
              <a:path w="21600" h="54083">
                <a:moveTo>
                  <a:pt x="609" y="0"/>
                </a:moveTo>
                <a:arcTo wR="609" hR="609" stAng="16200000" swAng="-5400000"/>
                <a:lnTo>
                  <a:pt x="0" y="53474"/>
                </a:lnTo>
                <a:arcTo wR="609" hR="609" stAng="10800000" swAng="-5400000"/>
                <a:lnTo>
                  <a:pt x="20991" y="54083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首位女大学生赴南极科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5"/>
          <p:cNvSpPr/>
          <p:nvPr/>
        </p:nvSpPr>
        <p:spPr>
          <a:xfrm>
            <a:off x="6227640" y="2781360"/>
            <a:ext cx="1008360" cy="2341440"/>
          </a:xfrm>
          <a:custGeom>
            <a:avLst/>
            <a:gdLst>
              <a:gd name="textAreaLeft" fmla="*/ 8280 w 1008360"/>
              <a:gd name="textAreaRight" fmla="*/ 1000080 w 1008360"/>
              <a:gd name="textAreaTop" fmla="*/ 8280 h 2341440"/>
              <a:gd name="textAreaBottom" fmla="*/ 2333160 h 2341440"/>
            </a:gdLst>
            <a:ahLst/>
            <a:rect l="textAreaLeft" t="textAreaTop" r="textAreaRight" b="textAreaBottom"/>
            <a:pathLst>
              <a:path w="21600" h="50146">
                <a:moveTo>
                  <a:pt x="609" y="0"/>
                </a:moveTo>
                <a:arcTo wR="609" hR="609" stAng="16200000" swAng="-5400000"/>
                <a:lnTo>
                  <a:pt x="0" y="49537"/>
                </a:lnTo>
                <a:arcTo wR="609" hR="609" stAng="10800000" swAng="-5400000"/>
                <a:lnTo>
                  <a:pt x="20991" y="50146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获得硕士研究生教育试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tangolo 5"/>
          <p:cNvSpPr/>
          <p:nvPr/>
        </p:nvSpPr>
        <p:spPr>
          <a:xfrm>
            <a:off x="7236000" y="2781360"/>
            <a:ext cx="576000" cy="2341440"/>
          </a:xfrm>
          <a:custGeom>
            <a:avLst/>
            <a:gdLst>
              <a:gd name="textAreaLeft" fmla="*/ 4680 w 576000"/>
              <a:gd name="textAreaRight" fmla="*/ 571320 w 57600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63">
                <a:moveTo>
                  <a:pt x="609" y="0"/>
                </a:moveTo>
                <a:arcTo wR="609" hR="609" stAng="16200000" swAng="-5400000"/>
                <a:lnTo>
                  <a:pt x="0" y="87154"/>
                </a:lnTo>
                <a:arcTo wR="609" hR="609" stAng="10800000" swAng="-5400000"/>
                <a:lnTo>
                  <a:pt x="20991" y="87763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式招收研究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ttangolo 5"/>
          <p:cNvSpPr/>
          <p:nvPr/>
        </p:nvSpPr>
        <p:spPr>
          <a:xfrm>
            <a:off x="8028000" y="2781360"/>
            <a:ext cx="936720" cy="2341440"/>
          </a:xfrm>
          <a:custGeom>
            <a:avLst/>
            <a:gdLst>
              <a:gd name="textAreaLeft" fmla="*/ 7560 w 936720"/>
              <a:gd name="textAreaRight" fmla="*/ 929160 w 936720"/>
              <a:gd name="textAreaTop" fmla="*/ 7560 h 2341440"/>
              <a:gd name="textAreaBottom" fmla="*/ 2333880 h 2341440"/>
            </a:gdLst>
            <a:ahLst/>
            <a:rect l="textAreaLeft" t="textAreaTop" r="textAreaRight" b="textAreaBottom"/>
            <a:pathLst>
              <a:path w="21600" h="53979">
                <a:moveTo>
                  <a:pt x="609" y="0"/>
                </a:moveTo>
                <a:arcTo wR="609" hR="609" stAng="16200000" swAng="-5400000"/>
                <a:lnTo>
                  <a:pt x="0" y="53370"/>
                </a:lnTo>
                <a:arcTo wR="609" hR="609" stAng="10800000" swAng="-5400000"/>
                <a:lnTo>
                  <a:pt x="20991" y="53979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浙江开展本科第一批招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tangolo 5"/>
          <p:cNvSpPr/>
          <p:nvPr/>
        </p:nvSpPr>
        <p:spPr>
          <a:xfrm>
            <a:off x="250920" y="2887560"/>
            <a:ext cx="576000" cy="2341800"/>
          </a:xfrm>
          <a:custGeom>
            <a:avLst/>
            <a:gdLst>
              <a:gd name="textAreaLeft" fmla="*/ 4680 w 576000"/>
              <a:gd name="textAreaRight" fmla="*/ 571320 w 57600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76">
                <a:moveTo>
                  <a:pt x="609" y="0"/>
                </a:moveTo>
                <a:arcTo wR="609" hR="609" stAng="16200000" swAng="-5400000"/>
                <a:lnTo>
                  <a:pt x="0" y="87167"/>
                </a:lnTo>
                <a:arcTo wR="609" hR="609" stAng="10800000" swAng="-5400000"/>
                <a:lnTo>
                  <a:pt x="20991" y="87776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新办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5"/>
          <p:cNvSpPr/>
          <p:nvPr/>
        </p:nvSpPr>
        <p:spPr>
          <a:xfrm>
            <a:off x="1258920" y="2887560"/>
            <a:ext cx="576360" cy="234180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21">
                <a:moveTo>
                  <a:pt x="609" y="0"/>
                </a:moveTo>
                <a:arcTo wR="609" hR="609" stAng="16200000" swAng="-5400000"/>
                <a:lnTo>
                  <a:pt x="0" y="87112"/>
                </a:lnTo>
                <a:arcTo wR="609" hR="609" stAng="10800000" swAng="-5400000"/>
                <a:lnTo>
                  <a:pt x="20991" y="87721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恢复本科招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5"/>
          <p:cNvSpPr/>
          <p:nvPr/>
        </p:nvSpPr>
        <p:spPr>
          <a:xfrm>
            <a:off x="234000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式升格为本科院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ttangolo 5"/>
          <p:cNvSpPr/>
          <p:nvPr/>
        </p:nvSpPr>
        <p:spPr>
          <a:xfrm>
            <a:off x="250920" y="2887560"/>
            <a:ext cx="576000" cy="2341800"/>
          </a:xfrm>
          <a:custGeom>
            <a:avLst/>
            <a:gdLst>
              <a:gd name="textAreaLeft" fmla="*/ 4680 w 576000"/>
              <a:gd name="textAreaRight" fmla="*/ 571320 w 57600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76">
                <a:moveTo>
                  <a:pt x="609" y="0"/>
                </a:moveTo>
                <a:arcTo wR="609" hR="609" stAng="16200000" swAng="-5400000"/>
                <a:lnTo>
                  <a:pt x="0" y="87167"/>
                </a:lnTo>
                <a:arcTo wR="609" hR="609" stAng="10800000" swAng="-5400000"/>
                <a:lnTo>
                  <a:pt x="20991" y="87776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新办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tangolo 5"/>
          <p:cNvSpPr/>
          <p:nvPr/>
        </p:nvSpPr>
        <p:spPr>
          <a:xfrm>
            <a:off x="1258920" y="2887560"/>
            <a:ext cx="576360" cy="234180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21">
                <a:moveTo>
                  <a:pt x="609" y="0"/>
                </a:moveTo>
                <a:arcTo wR="609" hR="609" stAng="16200000" swAng="-5400000"/>
                <a:lnTo>
                  <a:pt x="0" y="87112"/>
                </a:lnTo>
                <a:arcTo wR="609" hR="609" stAng="10800000" swAng="-5400000"/>
                <a:lnTo>
                  <a:pt x="20991" y="87721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恢复本科招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ttangolo 5"/>
          <p:cNvSpPr/>
          <p:nvPr/>
        </p:nvSpPr>
        <p:spPr>
          <a:xfrm>
            <a:off x="327492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办宁波诺丁汉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ttangolo 5"/>
          <p:cNvSpPr/>
          <p:nvPr/>
        </p:nvSpPr>
        <p:spPr>
          <a:xfrm>
            <a:off x="234000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式升格为本科院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tangolo 5"/>
          <p:cNvSpPr/>
          <p:nvPr/>
        </p:nvSpPr>
        <p:spPr>
          <a:xfrm>
            <a:off x="250920" y="2887560"/>
            <a:ext cx="576000" cy="2341800"/>
          </a:xfrm>
          <a:custGeom>
            <a:avLst/>
            <a:gdLst>
              <a:gd name="textAreaLeft" fmla="*/ 4680 w 576000"/>
              <a:gd name="textAreaRight" fmla="*/ 571320 w 57600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76">
                <a:moveTo>
                  <a:pt x="609" y="0"/>
                </a:moveTo>
                <a:arcTo wR="609" hR="609" stAng="16200000" swAng="-5400000"/>
                <a:lnTo>
                  <a:pt x="0" y="87167"/>
                </a:lnTo>
                <a:arcTo wR="609" hR="609" stAng="10800000" swAng="-5400000"/>
                <a:lnTo>
                  <a:pt x="20991" y="87776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新办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tangolo 5"/>
          <p:cNvSpPr/>
          <p:nvPr/>
        </p:nvSpPr>
        <p:spPr>
          <a:xfrm>
            <a:off x="1258920" y="2887560"/>
            <a:ext cx="576360" cy="234180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21">
                <a:moveTo>
                  <a:pt x="609" y="0"/>
                </a:moveTo>
                <a:arcTo wR="609" hR="609" stAng="16200000" swAng="-5400000"/>
                <a:lnTo>
                  <a:pt x="0" y="87112"/>
                </a:lnTo>
                <a:arcTo wR="609" hR="609" stAng="10800000" swAng="-5400000"/>
                <a:lnTo>
                  <a:pt x="20991" y="87721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恢复本科招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tangolo 5"/>
          <p:cNvSpPr/>
          <p:nvPr/>
        </p:nvSpPr>
        <p:spPr>
          <a:xfrm>
            <a:off x="327492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办宁波诺丁汉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tangolo 5"/>
          <p:cNvSpPr/>
          <p:nvPr/>
        </p:nvSpPr>
        <p:spPr>
          <a:xfrm>
            <a:off x="234000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式升格为本科院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tangolo 5"/>
          <p:cNvSpPr/>
          <p:nvPr/>
        </p:nvSpPr>
        <p:spPr>
          <a:xfrm>
            <a:off x="250920" y="2887560"/>
            <a:ext cx="576000" cy="2341800"/>
          </a:xfrm>
          <a:custGeom>
            <a:avLst/>
            <a:gdLst>
              <a:gd name="textAreaLeft" fmla="*/ 4680 w 576000"/>
              <a:gd name="textAreaRight" fmla="*/ 571320 w 57600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76">
                <a:moveTo>
                  <a:pt x="609" y="0"/>
                </a:moveTo>
                <a:arcTo wR="609" hR="609" stAng="16200000" swAng="-5400000"/>
                <a:lnTo>
                  <a:pt x="0" y="87167"/>
                </a:lnTo>
                <a:arcTo wR="609" hR="609" stAng="10800000" swAng="-5400000"/>
                <a:lnTo>
                  <a:pt x="20991" y="87776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新办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5"/>
          <p:cNvSpPr/>
          <p:nvPr/>
        </p:nvSpPr>
        <p:spPr>
          <a:xfrm>
            <a:off x="1258920" y="2887560"/>
            <a:ext cx="576360" cy="234180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21">
                <a:moveTo>
                  <a:pt x="609" y="0"/>
                </a:moveTo>
                <a:arcTo wR="609" hR="609" stAng="16200000" swAng="-5400000"/>
                <a:lnTo>
                  <a:pt x="0" y="87112"/>
                </a:lnTo>
                <a:arcTo wR="609" hR="609" stAng="10800000" swAng="-5400000"/>
                <a:lnTo>
                  <a:pt x="20991" y="87721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恢复本科招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5"/>
          <p:cNvSpPr/>
          <p:nvPr/>
        </p:nvSpPr>
        <p:spPr>
          <a:xfrm>
            <a:off x="5292720" y="2781360"/>
            <a:ext cx="934920" cy="2341440"/>
          </a:xfrm>
          <a:custGeom>
            <a:avLst/>
            <a:gdLst>
              <a:gd name="textAreaLeft" fmla="*/ 7560 w 934920"/>
              <a:gd name="textAreaRight" fmla="*/ 927360 w 934920"/>
              <a:gd name="textAreaTop" fmla="*/ 7560 h 2341440"/>
              <a:gd name="textAreaBottom" fmla="*/ 2333880 h 2341440"/>
            </a:gdLst>
            <a:ahLst/>
            <a:rect l="textAreaLeft" t="textAreaTop" r="textAreaRight" b="textAreaBottom"/>
            <a:pathLst>
              <a:path w="21600" h="54083">
                <a:moveTo>
                  <a:pt x="609" y="0"/>
                </a:moveTo>
                <a:arcTo wR="609" hR="609" stAng="16200000" swAng="-5400000"/>
                <a:lnTo>
                  <a:pt x="0" y="53474"/>
                </a:lnTo>
                <a:arcTo wR="609" hR="609" stAng="10800000" swAng="-5400000"/>
                <a:lnTo>
                  <a:pt x="20991" y="54083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首位女大学生赴南极科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tangolo 5"/>
          <p:cNvSpPr/>
          <p:nvPr/>
        </p:nvSpPr>
        <p:spPr>
          <a:xfrm>
            <a:off x="327492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办宁波诺丁汉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5"/>
          <p:cNvSpPr/>
          <p:nvPr/>
        </p:nvSpPr>
        <p:spPr>
          <a:xfrm>
            <a:off x="234000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式升格为本科院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tangolo 5"/>
          <p:cNvSpPr/>
          <p:nvPr/>
        </p:nvSpPr>
        <p:spPr>
          <a:xfrm>
            <a:off x="250920" y="2887560"/>
            <a:ext cx="576000" cy="2341800"/>
          </a:xfrm>
          <a:custGeom>
            <a:avLst/>
            <a:gdLst>
              <a:gd name="textAreaLeft" fmla="*/ 4680 w 576000"/>
              <a:gd name="textAreaRight" fmla="*/ 571320 w 57600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76">
                <a:moveTo>
                  <a:pt x="609" y="0"/>
                </a:moveTo>
                <a:arcTo wR="609" hR="609" stAng="16200000" swAng="-5400000"/>
                <a:lnTo>
                  <a:pt x="0" y="87167"/>
                </a:lnTo>
                <a:arcTo wR="609" hR="609" stAng="10800000" swAng="-5400000"/>
                <a:lnTo>
                  <a:pt x="20991" y="87776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新办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tangolo 5"/>
          <p:cNvSpPr/>
          <p:nvPr/>
        </p:nvSpPr>
        <p:spPr>
          <a:xfrm>
            <a:off x="1258920" y="2887560"/>
            <a:ext cx="576360" cy="234180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21">
                <a:moveTo>
                  <a:pt x="609" y="0"/>
                </a:moveTo>
                <a:arcTo wR="609" hR="609" stAng="16200000" swAng="-5400000"/>
                <a:lnTo>
                  <a:pt x="0" y="87112"/>
                </a:lnTo>
                <a:arcTo wR="609" hR="609" stAng="10800000" swAng="-5400000"/>
                <a:lnTo>
                  <a:pt x="20991" y="87721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恢复本科招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tangolo 5"/>
          <p:cNvSpPr/>
          <p:nvPr/>
        </p:nvSpPr>
        <p:spPr>
          <a:xfrm>
            <a:off x="6227640" y="2781360"/>
            <a:ext cx="1008360" cy="2341440"/>
          </a:xfrm>
          <a:custGeom>
            <a:avLst/>
            <a:gdLst>
              <a:gd name="textAreaLeft" fmla="*/ 8280 w 1008360"/>
              <a:gd name="textAreaRight" fmla="*/ 1000080 w 1008360"/>
              <a:gd name="textAreaTop" fmla="*/ 8280 h 2341440"/>
              <a:gd name="textAreaBottom" fmla="*/ 2333160 h 2341440"/>
            </a:gdLst>
            <a:ahLst/>
            <a:rect l="textAreaLeft" t="textAreaTop" r="textAreaRight" b="textAreaBottom"/>
            <a:pathLst>
              <a:path w="21600" h="50146">
                <a:moveTo>
                  <a:pt x="609" y="0"/>
                </a:moveTo>
                <a:arcTo wR="609" hR="609" stAng="16200000" swAng="-5400000"/>
                <a:lnTo>
                  <a:pt x="0" y="49537"/>
                </a:lnTo>
                <a:arcTo wR="609" hR="609" stAng="10800000" swAng="-5400000"/>
                <a:lnTo>
                  <a:pt x="20991" y="50146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获得硕士研究生教育试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tangolo 5"/>
          <p:cNvSpPr/>
          <p:nvPr/>
        </p:nvSpPr>
        <p:spPr>
          <a:xfrm>
            <a:off x="5292720" y="2781360"/>
            <a:ext cx="934920" cy="2341440"/>
          </a:xfrm>
          <a:custGeom>
            <a:avLst/>
            <a:gdLst>
              <a:gd name="textAreaLeft" fmla="*/ 7560 w 934920"/>
              <a:gd name="textAreaRight" fmla="*/ 927360 w 934920"/>
              <a:gd name="textAreaTop" fmla="*/ 7560 h 2341440"/>
              <a:gd name="textAreaBottom" fmla="*/ 2333880 h 2341440"/>
            </a:gdLst>
            <a:ahLst/>
            <a:rect l="textAreaLeft" t="textAreaTop" r="textAreaRight" b="textAreaBottom"/>
            <a:pathLst>
              <a:path w="21600" h="54083">
                <a:moveTo>
                  <a:pt x="609" y="0"/>
                </a:moveTo>
                <a:arcTo wR="609" hR="609" stAng="16200000" swAng="-5400000"/>
                <a:lnTo>
                  <a:pt x="0" y="53474"/>
                </a:lnTo>
                <a:arcTo wR="609" hR="609" stAng="10800000" swAng="-5400000"/>
                <a:lnTo>
                  <a:pt x="20991" y="54083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首位女大学生赴南极科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ttangolo 5"/>
          <p:cNvSpPr/>
          <p:nvPr/>
        </p:nvSpPr>
        <p:spPr>
          <a:xfrm>
            <a:off x="4140360" y="2781360"/>
            <a:ext cx="936360" cy="2341440"/>
          </a:xfrm>
          <a:custGeom>
            <a:avLst/>
            <a:gdLst>
              <a:gd name="textAreaLeft" fmla="*/ 7560 w 936360"/>
              <a:gd name="textAreaRight" fmla="*/ 928800 w 936360"/>
              <a:gd name="textAreaTop" fmla="*/ 7560 h 2341440"/>
              <a:gd name="textAreaBottom" fmla="*/ 2333880 h 2341440"/>
            </a:gdLst>
            <a:ahLst/>
            <a:rect l="textAreaLeft" t="textAreaTop" r="textAreaRight" b="textAreaBottom"/>
            <a:pathLst>
              <a:path w="21600" h="54000">
                <a:moveTo>
                  <a:pt x="609" y="0"/>
                </a:moveTo>
                <a:arcTo wR="609" hR="609" stAng="16200000" swAng="-5400000"/>
                <a:lnTo>
                  <a:pt x="0" y="53391"/>
                </a:lnTo>
                <a:arcTo wR="609" hR="609" stAng="10800000" swAng="-5400000"/>
                <a:lnTo>
                  <a:pt x="20991" y="54000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教育部本科教学工作水平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5"/>
          <p:cNvSpPr/>
          <p:nvPr/>
        </p:nvSpPr>
        <p:spPr>
          <a:xfrm>
            <a:off x="327492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办宁波诺丁汉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5"/>
          <p:cNvSpPr/>
          <p:nvPr/>
        </p:nvSpPr>
        <p:spPr>
          <a:xfrm>
            <a:off x="234000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式升格为本科院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5"/>
          <p:cNvSpPr/>
          <p:nvPr/>
        </p:nvSpPr>
        <p:spPr>
          <a:xfrm>
            <a:off x="250920" y="2887560"/>
            <a:ext cx="576000" cy="2341800"/>
          </a:xfrm>
          <a:custGeom>
            <a:avLst/>
            <a:gdLst>
              <a:gd name="textAreaLeft" fmla="*/ 4680 w 576000"/>
              <a:gd name="textAreaRight" fmla="*/ 571320 w 57600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76">
                <a:moveTo>
                  <a:pt x="609" y="0"/>
                </a:moveTo>
                <a:arcTo wR="609" hR="609" stAng="16200000" swAng="-5400000"/>
                <a:lnTo>
                  <a:pt x="0" y="87167"/>
                </a:lnTo>
                <a:arcTo wR="609" hR="609" stAng="10800000" swAng="-5400000"/>
                <a:lnTo>
                  <a:pt x="20991" y="87776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新办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5"/>
          <p:cNvSpPr/>
          <p:nvPr/>
        </p:nvSpPr>
        <p:spPr>
          <a:xfrm>
            <a:off x="1258920" y="2887560"/>
            <a:ext cx="576360" cy="234180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21">
                <a:moveTo>
                  <a:pt x="609" y="0"/>
                </a:moveTo>
                <a:arcTo wR="609" hR="609" stAng="16200000" swAng="-5400000"/>
                <a:lnTo>
                  <a:pt x="0" y="87112"/>
                </a:lnTo>
                <a:arcTo wR="609" hR="609" stAng="10800000" swAng="-5400000"/>
                <a:lnTo>
                  <a:pt x="20991" y="87721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恢复本科招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5"/>
          <p:cNvSpPr/>
          <p:nvPr/>
        </p:nvSpPr>
        <p:spPr>
          <a:xfrm>
            <a:off x="730872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式招收研究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5"/>
          <p:cNvSpPr/>
          <p:nvPr/>
        </p:nvSpPr>
        <p:spPr>
          <a:xfrm>
            <a:off x="6227640" y="2781360"/>
            <a:ext cx="1008360" cy="2341440"/>
          </a:xfrm>
          <a:custGeom>
            <a:avLst/>
            <a:gdLst>
              <a:gd name="textAreaLeft" fmla="*/ 8280 w 1008360"/>
              <a:gd name="textAreaRight" fmla="*/ 1000080 w 1008360"/>
              <a:gd name="textAreaTop" fmla="*/ 8280 h 2341440"/>
              <a:gd name="textAreaBottom" fmla="*/ 2333160 h 2341440"/>
            </a:gdLst>
            <a:ahLst/>
            <a:rect l="textAreaLeft" t="textAreaTop" r="textAreaRight" b="textAreaBottom"/>
            <a:pathLst>
              <a:path w="21600" h="50146">
                <a:moveTo>
                  <a:pt x="609" y="0"/>
                </a:moveTo>
                <a:arcTo wR="609" hR="609" stAng="16200000" swAng="-5400000"/>
                <a:lnTo>
                  <a:pt x="0" y="49537"/>
                </a:lnTo>
                <a:arcTo wR="609" hR="609" stAng="10800000" swAng="-5400000"/>
                <a:lnTo>
                  <a:pt x="20991" y="50146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获得硕士研究生教育试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5"/>
          <p:cNvSpPr/>
          <p:nvPr/>
        </p:nvSpPr>
        <p:spPr>
          <a:xfrm>
            <a:off x="5219640" y="2781360"/>
            <a:ext cx="934920" cy="2341440"/>
          </a:xfrm>
          <a:custGeom>
            <a:avLst/>
            <a:gdLst>
              <a:gd name="textAreaLeft" fmla="*/ 7560 w 934920"/>
              <a:gd name="textAreaRight" fmla="*/ 927360 w 934920"/>
              <a:gd name="textAreaTop" fmla="*/ 7560 h 2341440"/>
              <a:gd name="textAreaBottom" fmla="*/ 2333880 h 2341440"/>
            </a:gdLst>
            <a:ahLst/>
            <a:rect l="textAreaLeft" t="textAreaTop" r="textAreaRight" b="textAreaBottom"/>
            <a:pathLst>
              <a:path w="21600" h="54083">
                <a:moveTo>
                  <a:pt x="609" y="0"/>
                </a:moveTo>
                <a:arcTo wR="609" hR="609" stAng="16200000" swAng="-5400000"/>
                <a:lnTo>
                  <a:pt x="0" y="53474"/>
                </a:lnTo>
                <a:arcTo wR="609" hR="609" stAng="10800000" swAng="-5400000"/>
                <a:lnTo>
                  <a:pt x="20991" y="54083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位女大学生赴南极科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5"/>
          <p:cNvSpPr/>
          <p:nvPr/>
        </p:nvSpPr>
        <p:spPr>
          <a:xfrm>
            <a:off x="327492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办宁波诺丁汉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5"/>
          <p:cNvSpPr/>
          <p:nvPr/>
        </p:nvSpPr>
        <p:spPr>
          <a:xfrm>
            <a:off x="2340000" y="2781360"/>
            <a:ext cx="576360" cy="234144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440"/>
              <a:gd name="textAreaBottom" fmla="*/ 2336760 h 2341440"/>
            </a:gdLst>
            <a:ahLst/>
            <a:rect l="textAreaLeft" t="textAreaTop" r="textAreaRight" b="textAreaBottom"/>
            <a:pathLst>
              <a:path w="21600" h="87708">
                <a:moveTo>
                  <a:pt x="609" y="0"/>
                </a:moveTo>
                <a:arcTo wR="609" hR="609" stAng="16200000" swAng="-5400000"/>
                <a:lnTo>
                  <a:pt x="0" y="87099"/>
                </a:lnTo>
                <a:arcTo wR="609" hR="609" stAng="10800000" swAng="-5400000"/>
                <a:lnTo>
                  <a:pt x="20991" y="87708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式升格为本科院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5"/>
          <p:cNvSpPr/>
          <p:nvPr/>
        </p:nvSpPr>
        <p:spPr>
          <a:xfrm>
            <a:off x="250920" y="2133720"/>
            <a:ext cx="576000" cy="3600360"/>
          </a:xfrm>
          <a:custGeom>
            <a:avLst/>
            <a:gdLst>
              <a:gd name="textAreaLeft" fmla="*/ 4680 w 576000"/>
              <a:gd name="textAreaRight" fmla="*/ 571320 w 576000"/>
              <a:gd name="textAreaTop" fmla="*/ 4680 h 3600360"/>
              <a:gd name="textAreaBottom" fmla="*/ 3595680 h 3600360"/>
            </a:gdLst>
            <a:ahLst/>
            <a:rect l="textAreaLeft" t="textAreaTop" r="textAreaRight" b="textAreaBottom"/>
            <a:pathLst>
              <a:path w="21600" h="134943">
                <a:moveTo>
                  <a:pt x="609" y="0"/>
                </a:moveTo>
                <a:arcTo wR="609" hR="609" stAng="16200000" swAng="-5400000"/>
                <a:lnTo>
                  <a:pt x="0" y="134334"/>
                </a:lnTo>
                <a:arcTo wR="609" hR="609" stAng="10800000" swAng="-5400000"/>
                <a:lnTo>
                  <a:pt x="20991" y="134943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新办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5"/>
          <p:cNvSpPr/>
          <p:nvPr/>
        </p:nvSpPr>
        <p:spPr>
          <a:xfrm>
            <a:off x="1258920" y="2887560"/>
            <a:ext cx="576360" cy="2341800"/>
          </a:xfrm>
          <a:custGeom>
            <a:avLst/>
            <a:gdLst>
              <a:gd name="textAreaLeft" fmla="*/ 4680 w 576360"/>
              <a:gd name="textAreaRight" fmla="*/ 571680 w 576360"/>
              <a:gd name="textAreaTop" fmla="*/ 4680 h 2341800"/>
              <a:gd name="textAreaBottom" fmla="*/ 2337120 h 2341800"/>
            </a:gdLst>
            <a:ahLst/>
            <a:rect l="textAreaLeft" t="textAreaTop" r="textAreaRight" b="textAreaBottom"/>
            <a:pathLst>
              <a:path w="21600" h="87721">
                <a:moveTo>
                  <a:pt x="609" y="0"/>
                </a:moveTo>
                <a:arcTo wR="609" hR="609" stAng="16200000" swAng="-5400000"/>
                <a:lnTo>
                  <a:pt x="0" y="87112"/>
                </a:lnTo>
                <a:arcTo wR="609" hR="609" stAng="10800000" swAng="-5400000"/>
                <a:lnTo>
                  <a:pt x="20991" y="87721"/>
                </a:lnTo>
                <a:arcTo wR="609" hR="609" stAng="5400000" swAng="-5400000"/>
                <a:lnTo>
                  <a:pt x="21600" y="609"/>
                </a:lnTo>
                <a:arcTo wR="609" hR="60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恢复本科招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60"/>
          <p:cNvSpPr/>
          <p:nvPr/>
        </p:nvSpPr>
        <p:spPr>
          <a:xfrm>
            <a:off x="1042920" y="1268280"/>
            <a:ext cx="216000" cy="289080"/>
          </a:xfrm>
          <a:custGeom>
            <a:avLst/>
            <a:gdLst>
              <a:gd name="textAreaLeft" fmla="*/ 27000 w 216000"/>
              <a:gd name="textAreaRight" fmla="*/ 189000 w 216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61"/>
          <p:cNvSpPr/>
          <p:nvPr/>
        </p:nvSpPr>
        <p:spPr>
          <a:xfrm>
            <a:off x="2052720" y="1268280"/>
            <a:ext cx="215640" cy="289080"/>
          </a:xfrm>
          <a:custGeom>
            <a:avLst/>
            <a:gdLst>
              <a:gd name="textAreaLeft" fmla="*/ 27000 w 215640"/>
              <a:gd name="textAreaRight" fmla="*/ 189000 w 215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62"/>
          <p:cNvSpPr/>
          <p:nvPr/>
        </p:nvSpPr>
        <p:spPr>
          <a:xfrm>
            <a:off x="3059280" y="1268280"/>
            <a:ext cx="215640" cy="289080"/>
          </a:xfrm>
          <a:custGeom>
            <a:avLst/>
            <a:gdLst>
              <a:gd name="textAreaLeft" fmla="*/ 27000 w 215640"/>
              <a:gd name="textAreaRight" fmla="*/ 189000 w 215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63"/>
          <p:cNvSpPr/>
          <p:nvPr/>
        </p:nvSpPr>
        <p:spPr>
          <a:xfrm>
            <a:off x="4067280" y="1268280"/>
            <a:ext cx="215640" cy="289080"/>
          </a:xfrm>
          <a:custGeom>
            <a:avLst/>
            <a:gdLst>
              <a:gd name="textAreaLeft" fmla="*/ 27000 w 215640"/>
              <a:gd name="textAreaRight" fmla="*/ 189000 w 215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64"/>
          <p:cNvSpPr/>
          <p:nvPr/>
        </p:nvSpPr>
        <p:spPr>
          <a:xfrm>
            <a:off x="5076720" y="1268280"/>
            <a:ext cx="216000" cy="289080"/>
          </a:xfrm>
          <a:custGeom>
            <a:avLst/>
            <a:gdLst>
              <a:gd name="textAreaLeft" fmla="*/ 27000 w 216000"/>
              <a:gd name="textAreaRight" fmla="*/ 189000 w 216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65"/>
          <p:cNvSpPr/>
          <p:nvPr/>
        </p:nvSpPr>
        <p:spPr>
          <a:xfrm>
            <a:off x="6012000" y="1268280"/>
            <a:ext cx="215640" cy="289080"/>
          </a:xfrm>
          <a:custGeom>
            <a:avLst/>
            <a:gdLst>
              <a:gd name="textAreaLeft" fmla="*/ 27000 w 215640"/>
              <a:gd name="textAreaRight" fmla="*/ 189000 w 215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66"/>
          <p:cNvSpPr/>
          <p:nvPr/>
        </p:nvSpPr>
        <p:spPr>
          <a:xfrm>
            <a:off x="6948360" y="1268280"/>
            <a:ext cx="216000" cy="289080"/>
          </a:xfrm>
          <a:custGeom>
            <a:avLst/>
            <a:gdLst>
              <a:gd name="textAreaLeft" fmla="*/ 27000 w 216000"/>
              <a:gd name="textAreaRight" fmla="*/ 189000 w 216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67"/>
          <p:cNvSpPr/>
          <p:nvPr/>
        </p:nvSpPr>
        <p:spPr>
          <a:xfrm>
            <a:off x="7885080" y="1268280"/>
            <a:ext cx="216000" cy="289080"/>
          </a:xfrm>
          <a:custGeom>
            <a:avLst/>
            <a:gdLst>
              <a:gd name="textAreaLeft" fmla="*/ 27000 w 216000"/>
              <a:gd name="textAreaRight" fmla="*/ 189000 w 216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72"/>
          <p:cNvSpPr/>
          <p:nvPr/>
        </p:nvSpPr>
        <p:spPr>
          <a:xfrm>
            <a:off x="250920" y="3141720"/>
            <a:ext cx="576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73"/>
          <p:cNvSpPr/>
          <p:nvPr/>
        </p:nvSpPr>
        <p:spPr>
          <a:xfrm>
            <a:off x="1187280" y="2133720"/>
            <a:ext cx="756000" cy="3600360"/>
          </a:xfrm>
          <a:prstGeom prst="rect">
            <a:avLst/>
          </a:prstGeom>
          <a:noFill/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74"/>
          <p:cNvSpPr/>
          <p:nvPr/>
        </p:nvSpPr>
        <p:spPr>
          <a:xfrm>
            <a:off x="2230560" y="2133720"/>
            <a:ext cx="755640" cy="3600360"/>
          </a:xfrm>
          <a:prstGeom prst="rect">
            <a:avLst/>
          </a:prstGeom>
          <a:noFill/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75"/>
          <p:cNvSpPr/>
          <p:nvPr/>
        </p:nvSpPr>
        <p:spPr>
          <a:xfrm>
            <a:off x="3186000" y="2133720"/>
            <a:ext cx="755640" cy="3600360"/>
          </a:xfrm>
          <a:prstGeom prst="rect">
            <a:avLst/>
          </a:prstGeom>
          <a:noFill/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76"/>
          <p:cNvSpPr/>
          <p:nvPr/>
        </p:nvSpPr>
        <p:spPr>
          <a:xfrm>
            <a:off x="4140360" y="2133720"/>
            <a:ext cx="936360" cy="3600360"/>
          </a:xfrm>
          <a:prstGeom prst="rect">
            <a:avLst/>
          </a:prstGeom>
          <a:noFill/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77"/>
          <p:cNvSpPr/>
          <p:nvPr/>
        </p:nvSpPr>
        <p:spPr>
          <a:xfrm>
            <a:off x="5219640" y="2133720"/>
            <a:ext cx="936720" cy="3600360"/>
          </a:xfrm>
          <a:prstGeom prst="rect">
            <a:avLst/>
          </a:prstGeom>
          <a:noFill/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78"/>
          <p:cNvSpPr/>
          <p:nvPr/>
        </p:nvSpPr>
        <p:spPr>
          <a:xfrm>
            <a:off x="6227640" y="2133720"/>
            <a:ext cx="936720" cy="3600360"/>
          </a:xfrm>
          <a:prstGeom prst="rect">
            <a:avLst/>
          </a:prstGeom>
          <a:noFill/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79"/>
          <p:cNvSpPr/>
          <p:nvPr/>
        </p:nvSpPr>
        <p:spPr>
          <a:xfrm>
            <a:off x="7237440" y="2133720"/>
            <a:ext cx="647640" cy="3600360"/>
          </a:xfrm>
          <a:prstGeom prst="rect">
            <a:avLst/>
          </a:prstGeom>
          <a:noFill/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80"/>
          <p:cNvSpPr/>
          <p:nvPr/>
        </p:nvSpPr>
        <p:spPr>
          <a:xfrm>
            <a:off x="8028000" y="2133720"/>
            <a:ext cx="936720" cy="3600360"/>
          </a:xfrm>
          <a:prstGeom prst="rect">
            <a:avLst/>
          </a:prstGeom>
          <a:noFill/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81"/>
          <p:cNvSpPr/>
          <p:nvPr/>
        </p:nvSpPr>
        <p:spPr>
          <a:xfrm>
            <a:off x="250920" y="1197000"/>
            <a:ext cx="792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82"/>
          <p:cNvSpPr/>
          <p:nvPr/>
        </p:nvSpPr>
        <p:spPr>
          <a:xfrm>
            <a:off x="1258920" y="1197000"/>
            <a:ext cx="792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83"/>
          <p:cNvSpPr/>
          <p:nvPr/>
        </p:nvSpPr>
        <p:spPr>
          <a:xfrm>
            <a:off x="4282920" y="1197000"/>
            <a:ext cx="79236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84"/>
          <p:cNvSpPr/>
          <p:nvPr/>
        </p:nvSpPr>
        <p:spPr>
          <a:xfrm>
            <a:off x="5219640" y="1197000"/>
            <a:ext cx="79236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85"/>
          <p:cNvSpPr/>
          <p:nvPr/>
        </p:nvSpPr>
        <p:spPr>
          <a:xfrm>
            <a:off x="3274920" y="1197000"/>
            <a:ext cx="79236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86"/>
          <p:cNvSpPr/>
          <p:nvPr/>
        </p:nvSpPr>
        <p:spPr>
          <a:xfrm>
            <a:off x="6156360" y="1197000"/>
            <a:ext cx="792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87"/>
          <p:cNvSpPr/>
          <p:nvPr/>
        </p:nvSpPr>
        <p:spPr>
          <a:xfrm>
            <a:off x="7093080" y="1197000"/>
            <a:ext cx="792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88"/>
          <p:cNvSpPr/>
          <p:nvPr/>
        </p:nvSpPr>
        <p:spPr>
          <a:xfrm>
            <a:off x="8101080" y="1197000"/>
            <a:ext cx="792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89"/>
          <p:cNvSpPr/>
          <p:nvPr/>
        </p:nvSpPr>
        <p:spPr>
          <a:xfrm>
            <a:off x="2266920" y="1197000"/>
            <a:ext cx="79236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90"/>
          <p:cNvSpPr/>
          <p:nvPr/>
        </p:nvSpPr>
        <p:spPr>
          <a:xfrm>
            <a:off x="468360" y="1628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91"/>
          <p:cNvSpPr/>
          <p:nvPr/>
        </p:nvSpPr>
        <p:spPr>
          <a:xfrm>
            <a:off x="1476360" y="1628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92"/>
          <p:cNvSpPr/>
          <p:nvPr/>
        </p:nvSpPr>
        <p:spPr>
          <a:xfrm>
            <a:off x="2484360" y="1628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93"/>
          <p:cNvSpPr/>
          <p:nvPr/>
        </p:nvSpPr>
        <p:spPr>
          <a:xfrm>
            <a:off x="3456000" y="1628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94"/>
          <p:cNvSpPr/>
          <p:nvPr/>
        </p:nvSpPr>
        <p:spPr>
          <a:xfrm>
            <a:off x="4500720" y="1628640"/>
            <a:ext cx="215640" cy="505080"/>
          </a:xfrm>
          <a:prstGeom prst="downArrow">
            <a:avLst>
              <a:gd name="adj1" fmla="val 50000"/>
              <a:gd name="adj2" fmla="val 5855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95"/>
          <p:cNvSpPr/>
          <p:nvPr/>
        </p:nvSpPr>
        <p:spPr>
          <a:xfrm>
            <a:off x="5508720" y="1628640"/>
            <a:ext cx="215640" cy="505080"/>
          </a:xfrm>
          <a:prstGeom prst="downArrow">
            <a:avLst>
              <a:gd name="adj1" fmla="val 50000"/>
              <a:gd name="adj2" fmla="val 5855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96"/>
          <p:cNvSpPr/>
          <p:nvPr/>
        </p:nvSpPr>
        <p:spPr>
          <a:xfrm>
            <a:off x="6516720" y="1628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97"/>
          <p:cNvSpPr/>
          <p:nvPr/>
        </p:nvSpPr>
        <p:spPr>
          <a:xfrm>
            <a:off x="8317080" y="1628640"/>
            <a:ext cx="215640" cy="505080"/>
          </a:xfrm>
          <a:prstGeom prst="downArrow">
            <a:avLst>
              <a:gd name="adj1" fmla="val 50000"/>
              <a:gd name="adj2" fmla="val 5855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00"/>
          <p:cNvSpPr/>
          <p:nvPr/>
        </p:nvSpPr>
        <p:spPr>
          <a:xfrm>
            <a:off x="7451640" y="1628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01"/>
          <p:cNvSpPr/>
          <p:nvPr/>
        </p:nvSpPr>
        <p:spPr>
          <a:xfrm>
            <a:off x="209520" y="5610240"/>
            <a:ext cx="393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学校办学性质未变，仍为国有省属普通院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5"/>
          <p:cNvSpPr/>
          <p:nvPr/>
        </p:nvSpPr>
        <p:spPr>
          <a:xfrm>
            <a:off x="-15840" y="1892160"/>
            <a:ext cx="9159840" cy="49658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院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014 浙江万里学院校标空心"/>
          <p:cNvPicPr/>
          <p:nvPr/>
        </p:nvPicPr>
        <p:blipFill>
          <a:blip r:embed="rId1"/>
          <a:stretch/>
        </p:blipFill>
        <p:spPr>
          <a:xfrm>
            <a:off x="650088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-15840" y="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5646600" y="213372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6332400" y="213372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504720" y="2133720"/>
            <a:ext cx="809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7093080" y="2133720"/>
            <a:ext cx="0" cy="79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8597880" y="2133720"/>
            <a:ext cx="0" cy="79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7812000" y="213372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8337960" y="2930400"/>
            <a:ext cx="482040" cy="25146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国      际     学      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7592040" y="2930400"/>
            <a:ext cx="482040" cy="25146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继续教育学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6837840" y="2930400"/>
            <a:ext cx="482040" cy="25146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创新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6054120" y="2930400"/>
            <a:ext cx="454680" cy="25146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基      础     学     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122440" y="2930400"/>
            <a:ext cx="729000" cy="25146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计 算 机 与 信 息 学 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62440" y="2930400"/>
            <a:ext cx="454680" cy="25146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           学           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466280" y="2930400"/>
            <a:ext cx="454680" cy="25146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法          学           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798200" y="2930400"/>
            <a:ext cx="729000" cy="25146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  化  与  传  播  学  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2718720" y="2930400"/>
            <a:ext cx="454680" cy="25146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     语      学      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3160440" y="2924280"/>
            <a:ext cx="729000" cy="25160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设 计艺 术与 建 筑 学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3801600" y="2928960"/>
            <a:ext cx="729000" cy="25160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  物  与  环  境  学  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4482720" y="2930400"/>
            <a:ext cx="729000" cy="25146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电   子   信   息   学   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840240" y="2930400"/>
            <a:ext cx="482040" cy="25146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现代物流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504720" y="213372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9"/>
          <p:cNvSpPr/>
          <p:nvPr/>
        </p:nvSpPr>
        <p:spPr>
          <a:xfrm>
            <a:off x="1042920" y="213372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>
            <a:off x="1692360" y="213372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2268360" y="212076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2"/>
          <p:cNvSpPr/>
          <p:nvPr/>
        </p:nvSpPr>
        <p:spPr>
          <a:xfrm>
            <a:off x="2916360" y="213372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3"/>
          <p:cNvSpPr/>
          <p:nvPr/>
        </p:nvSpPr>
        <p:spPr>
          <a:xfrm>
            <a:off x="3564000" y="213372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4"/>
          <p:cNvSpPr/>
          <p:nvPr/>
        </p:nvSpPr>
        <p:spPr>
          <a:xfrm>
            <a:off x="4284720" y="213372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5"/>
          <p:cNvSpPr/>
          <p:nvPr/>
        </p:nvSpPr>
        <p:spPr>
          <a:xfrm>
            <a:off x="5003640" y="213372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0" y="0"/>
            <a:ext cx="32385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业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业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0" y="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业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05" descr="014 浙江万里学院校标空心"/>
          <p:cNvPicPr/>
          <p:nvPr/>
        </p:nvPicPr>
        <p:blipFill>
          <a:blip r:embed="rId2"/>
          <a:stretch/>
        </p:blipFill>
        <p:spPr>
          <a:xfrm>
            <a:off x="650088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-15840" y="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业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08" descr="014 浙江万里学院校标空心"/>
          <p:cNvPicPr/>
          <p:nvPr/>
        </p:nvPicPr>
        <p:blipFill>
          <a:blip r:embed="rId3"/>
          <a:stretch/>
        </p:blipFill>
        <p:spPr>
          <a:xfrm>
            <a:off x="650088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-15840" y="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0" y="1892160"/>
            <a:ext cx="9159840" cy="49658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楷体"/>
              </a:rPr>
              <a:t>本科专业：</a:t>
            </a:r>
            <a:r>
              <a:rPr b="1" lang="en-US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43</a:t>
            </a: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个，含理、工、经、管、文、法、艺七大学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楷体"/>
              </a:rPr>
              <a:t>国家特色专业：</a:t>
            </a: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生物技术、新闻学、物流管理、会展经济与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楷体"/>
              </a:rPr>
              <a:t>浙江省重点专业：</a:t>
            </a: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信息管理与信息系统、英语、新闻学、国际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济与贸易、会展经济与管理、生物技术、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与计算科学、通信工程、金融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楷体"/>
              </a:rPr>
              <a:t>浙江省特色专业：</a:t>
            </a: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生物工程、通信工程、物联网工程、电子商务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楷体"/>
              </a:rPr>
              <a:t>网络与新媒体、软件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业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12" descr="014 浙江万里学院校标空心"/>
          <p:cNvPicPr/>
          <p:nvPr/>
        </p:nvPicPr>
        <p:blipFill>
          <a:blip r:embed="rId4"/>
          <a:stretch/>
        </p:blipFill>
        <p:spPr>
          <a:xfrm>
            <a:off x="650088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"/>
          <p:cNvSpPr/>
          <p:nvPr/>
        </p:nvSpPr>
        <p:spPr>
          <a:xfrm>
            <a:off x="-15840" y="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5"/>
          <p:cNvSpPr/>
          <p:nvPr/>
        </p:nvSpPr>
        <p:spPr>
          <a:xfrm>
            <a:off x="-15840" y="1892160"/>
            <a:ext cx="9159840" cy="49658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国家精品课程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生化实验技术、国际贸易理论与政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国家双语示范课程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基因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省精品课程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新闻采访与写作、民法学、通信原理、经济学、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融数学、数据结构等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余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0" y="145584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0" y="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5"/>
          <p:cNvSpPr/>
          <p:nvPr/>
        </p:nvSpPr>
        <p:spPr>
          <a:xfrm>
            <a:off x="3240" y="1892160"/>
            <a:ext cx="9144000" cy="49658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324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基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0" y="0"/>
            <a:ext cx="32385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24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基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0" y="0"/>
            <a:ext cx="32385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24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的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tangolo 5"/>
          <p:cNvSpPr/>
          <p:nvPr/>
        </p:nvSpPr>
        <p:spPr>
          <a:xfrm>
            <a:off x="395280" y="2205000"/>
            <a:ext cx="8424720" cy="439092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现有专任教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名，具有副教授以上高级职称的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包括国务院特殊津贴专家、中科院院士、教育部新世纪优秀人才支持计划、省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才、高校教学名师、甬江学者、省高校中青年学科带头人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老师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5"/>
          <p:cNvSpPr/>
          <p:nvPr/>
        </p:nvSpPr>
        <p:spPr>
          <a:xfrm>
            <a:off x="3240" y="1903320"/>
            <a:ext cx="9144000" cy="50180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5"/>
          <p:cNvSpPr/>
          <p:nvPr/>
        </p:nvSpPr>
        <p:spPr>
          <a:xfrm>
            <a:off x="3240" y="1844640"/>
            <a:ext cx="9144000" cy="50180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44280"/>
            <a:ext cx="2477880" cy="501840"/>
          </a:xfrm>
          <a:prstGeom prst="rect">
            <a:avLst/>
          </a:prstGeom>
          <a:ln w="0">
            <a:noFill/>
          </a:ln>
        </p:spPr>
      </p:pic>
      <p:sp>
        <p:nvSpPr>
          <p:cNvPr id="218" name="Rettangolo 5"/>
          <p:cNvSpPr/>
          <p:nvPr/>
        </p:nvSpPr>
        <p:spPr>
          <a:xfrm>
            <a:off x="395280" y="2133720"/>
            <a:ext cx="8424720" cy="439092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万里，我们的同学来自全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个国家，仅大陆的同学也来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省（市区），不同区域的同学，增长了我们的见识，促进了多元文化的交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学们的事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24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基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0" y="0"/>
            <a:ext cx="3635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革试点方案主要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324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基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0" y="0"/>
            <a:ext cx="3635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革试点方案主要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24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基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0" y="0"/>
            <a:ext cx="3635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革试点方案主要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240" y="143208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的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0" y="0"/>
            <a:ext cx="3635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4:13:37Z</dcterms:created>
  <dc:creator>yellownancy</dc:creator>
  <dc:description/>
  <dc:language>en-US</dc:language>
  <cp:lastModifiedBy>dbh</cp:lastModifiedBy>
  <dcterms:modified xsi:type="dcterms:W3CDTF">2016-01-08T00:43:06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